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final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F19-428A-4999-A17D-FDDD104B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955-CAC1-4060-B120-0184CBC8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BAC-6FC5-4C74-9307-7A35599C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3E0-F81C-4A8D-919A-FFFD8E3C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D765-F5A2-485E-ACE0-33F5191E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AE21-0F35-4734-88A6-F228B33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3E6F-0162-4612-B4BD-256AA699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992C-66E2-4AF0-AD71-98A9FF02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A1EA-4870-41E1-B230-C955114A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5ABE-E99C-4D87-AD4A-F652402E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61E9-10CB-436D-9E82-2859E3F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A53-1F86-45B2-B060-338CAFD7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F10F-B75B-4992-ACFF-65B82688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59AF-F917-44AD-9B4A-21CF388E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ACB9-707D-43C6-A80D-B9C99B10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B55-95F1-4805-B7EA-7135CA51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EFB4-81FE-42AB-B2CC-44237ABC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1C6-4D2F-4CA3-AD0B-96A0D1E1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432F-E5AD-42D4-9F48-1DFBB2AA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706-F5F3-411B-A4EE-65E6C388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901-DAD7-4F11-987B-567194B0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6FA-18FF-4710-BC0D-23E3F1F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071-21F9-4F4F-A19C-C0A8921A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DAE-C138-4956-AC7A-32A25ACB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74A4-C638-4ACE-9BAB-D6C84B74C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3443-252E-44BE-A0D4-6BB294E691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final.wav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4360" y="1523880"/>
          <a:ext cx="7775280" cy="46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23880"/>
                    <a:ext cx="77752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38800" y="175248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2080" y="17524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960" y="1447920"/>
            <a:ext cx="127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8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52560" y="283356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former slave who helped invent the reaper with Cyrus McCormi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76520" y="310824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o Ander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087640" y="2651040"/>
            <a:ext cx="49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gion of the United States has the oldest mountain 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73160" y="3108240"/>
            <a:ext cx="51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palachian Mountain reg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7200" y="2833560"/>
            <a:ext cx="534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known as the Lost Colon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25520" y="310824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anoke Is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20880" y="1735200"/>
            <a:ext cx="550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carried goods from Europe to West African empires, trading metals, cloth, and other manufactured goods for gol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630440" y="3108240"/>
            <a:ext cx="58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ugue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014480" y="2558880"/>
            <a:ext cx="71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region of the original 13 colonies was known for v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age and church as center of its social lif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62040" y="31082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w Eng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41600" y="2558880"/>
            <a:ext cx="586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commander-in-chief of the Continental Arm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11320" y="2558880"/>
            <a:ext cx="512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re was the battle that was the turning point of the American Revolu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Pla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06400" y="310824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ratoga, New Y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19320" y="28335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Declaration of Independenc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89280" y="316872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mas Jeffer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1480" y="2558880"/>
            <a:ext cx="57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rote the Bill of Righ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92280" y="310824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 Madis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71600" y="2558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e author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Common Sens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44560" y="3108240"/>
            <a:ext cx="56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mas Pa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477800" y="2558880"/>
            <a:ext cx="618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document recognized American Independence from Engla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706400" y="2833560"/>
            <a:ext cx="57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Treaty of Par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6520" y="28335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orge Wash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366920" y="255888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cument 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sures all citizens the right to vote regardless of race or color or previous condition of servitud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81160" y="3048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endment to the United States Constit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96920" y="2833560"/>
            <a:ext cx="69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harb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90720" y="283356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atural, protected place that is deep enough that ships can ancho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935000" y="255888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harveste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14400" y="2558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ather in a cro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59040" y="310824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cult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914400" y="283356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liefs, social actions and traits of people of the same religion, race or count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219320" y="228456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economic ventu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523880" y="283356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is done to make mone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325520" y="2833560"/>
            <a:ext cx="64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established the French settlement of Quebec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310824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unalienab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er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90720" y="310824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mething that can’t be given up or give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89280" y="3168720"/>
            <a:ext cx="641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began the American Revoluti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063880" y="3108240"/>
            <a:ext cx="50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ring on Fort Sum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35000" y="2833560"/>
            <a:ext cx="527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general of the Union army that defeated Lee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89280" y="316872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ysses S. Gr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89280" y="3168720"/>
            <a:ext cx="565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gave the Freed slaves equal rights and helped ensure it by allowing federal troops to enforce the righ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66680" y="28335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ivil Rights Act of 186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905120" y="320040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four slave states stayed in the Union during the Civil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14400" y="283356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laware, Kentucky, Maryland and Missou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0640" y="31082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muel de Champl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89280" y="3168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became president in 1860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istory Myste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89280" y="3168720"/>
            <a:ext cx="63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raham Lincol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20430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was the idea that expansion was for the good of the country and was the right of the country called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ina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3880" y="2819520"/>
            <a:ext cx="68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ifest Desti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59040" y="2558880"/>
            <a:ext cx="542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nvented the cotton g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624040" y="3108240"/>
            <a:ext cx="38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i Whitn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95280" y="28335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a former slave who wrote poems and play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554120" y="3108240"/>
            <a:ext cx="60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hyllis Wheatl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renita.williams</cp:lastModifiedBy>
  <dcterms:modified xsi:type="dcterms:W3CDTF">2007-01-02T02:15:40Z</dcterms:modified>
  <cp:revision>33</cp:revision>
  <dc:subject/>
  <dc:title>Jeopardy</dc:title>
</cp:coreProperties>
</file>